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7576-B247-4362-88A7-7ED0111D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B836-A5CB-4771-A0A0-EA6F2262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E612-58E1-431D-845E-73DF4FA5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F309-E0FA-492A-8E90-7E6CA598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5EF2-E67F-4566-A830-3388B0C7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45BA-3BB1-44B3-B29C-E4499A46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D5F5-4481-45DD-8AB6-309C62DF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0C79-FD3E-492F-ABD7-9ABCD29E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C45F-5A7E-4871-AF49-4BA5B964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9681-AD04-497A-A7F8-E262DD2B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6F1F-CB0D-4119-8AAD-BD2D3E4B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1FA6-BDA8-4EAD-8664-76A8CD3C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6008-A97B-4062-AF40-43B5519E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16EA-4AB2-4287-9CD2-EF82B041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9524-1C08-400D-9997-8F3AE381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BD4D-BBC0-4359-9B02-0E54B628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5E41-FA59-452C-B7F5-7D26F267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1CF0-E341-4555-BA37-1E314B33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AB9A-40A3-4E41-B94E-CEB1A7B5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C2D0-2229-4CB1-9811-75B8A622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0F65-AE51-49AC-A94A-CE9C8399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ED08-3F8C-44A5-8723-38533204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6A51-5FC5-453F-A825-FD848895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51DD-49D1-4A77-99AE-A18E2285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2A95-7AD6-4227-8E6D-C4D2E40DE3F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E3DB-53CD-4915-A788-A63A0A55895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7458-839C-493D-8FE9-E3098C9798B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5394-7756-4799-A174-F83E30574D1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349000"/>
            <a:ext cx="6707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ировая экономика и международная торговля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631656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586692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вка Н.В., учитель истории и обществознания МОУ «Февральская СОШ №1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09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92360" y="189000"/>
            <a:ext cx="2162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коном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DF0C-D94C-49DC-978F-C2C9FD7933B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A1D7A95-10F8-46B0-9BC7-7B90EF306C7E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360" y="476280"/>
            <a:ext cx="79088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ОТЕХНОЛОГИЧЕСКИЕ ТЕОРИИ М-Н ТОРГОВЛИ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126828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и теории объясняют, например,  причины торговли между странами, притом что структура и техническая характеристика факторов производства у них схож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24922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амках этих теорий учитываются возможности новой развивающейся техники и технологи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284640"/>
            <a:ext cx="1873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Крупносерийно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производ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284640"/>
            <a:ext cx="266508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Снижение себестоимост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единицы  продук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00720" y="3284640"/>
            <a:ext cx="21589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Снижен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це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84360" y="3645000"/>
            <a:ext cx="574920" cy="144360"/>
          </a:xfrm>
          <a:prstGeom prst="rightArrow">
            <a:avLst>
              <a:gd name="adj1" fmla="val 50000"/>
              <a:gd name="adj2" fmla="val 99564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4360" y="3573360"/>
            <a:ext cx="574920" cy="144720"/>
          </a:xfrm>
          <a:prstGeom prst="rightArrow">
            <a:avLst>
              <a:gd name="adj1" fmla="val 50000"/>
              <a:gd name="adj2" fmla="val 9931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4508640"/>
            <a:ext cx="8207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ономисты обращают внимание на непрерывные технологические изменения, осуществляемые фирмами с целью формирования конкурентных преимуще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, например, Голландия экспортирует цветы на сумму более 1 млрд долл. в год, используя усовершенствованные теплицы, отапливаемые электричеством или газом, и авиатранспорт для доставки товара потребителя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2FC0-7B24-437F-AA4D-695AE216010F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17FE4-A08B-4CC6-9FE3-4A227C1708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акономерности развития мировой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2060640"/>
            <a:ext cx="813744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ая торговля растет очень быстро, экспортные доли стран в объеме ВВП увеличиваются. В 1950г. мировой экспорт товаров и услуг составлял 13% мирового ВВП, в 2000г. – 17,1%, в 2015г., по прогнозу, составит 18,7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растает доля готовой продукции, особенно высокотехнологичной, наукоем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ыстро растут цены машин и оборудования, выпускаемые ведущими странами ми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нижение спроса развитых стран на сырье и продовольствие, производимые развивающимися странами. Их положение в мировой торговле ухудшается. Выгодность внешней торговли для развитых стран рас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величение мирового рынка услуг, особенно туристских, транспортных, финансовых, в сфере передачи технологии. Лидеры – развитые стра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489F-E7F3-44B5-8DB2-DD5A9D464F4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5296A-3F69-4906-9D38-278851229F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0802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нешняя торговля Росси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822240"/>
            <a:ext cx="8207280" cy="60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начение внешней торговли выросло. В 2003г. экспорт товаров составил 135,9 млрд долл., и увеличился на 26,2% по сравнению с уровнем 2002г., импорт вырос на 23,6% и равнялся 75,4 млрд долл. Увеличилась доля экспорта в ВВП. Россия перешла к более рациональным связям, крупнейшие ее партнеры – Германия, США, Итал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ля России в мировой торговле снижается. Ее внешнеторговый оборот составляет около 1% от мирового по сравнению с 3% во второй половине 80-х г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благоприятна товарная структура внешней торговли. Более половины экспорта – невоспроизводимые сырьевые товары с низкой степенью обработки, цветные и черные металлы, электроэнергия, минеральные удобрения, каменный уголь, лес. Вывоз машин и оборудования – около 5%. На 70-75% поступление валюты связано с экспортом сырь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портируется оборудование и машины - около трети стоимости импорта, продовольствие, с/х сырье, медикаменты, одежда, обувь, ткан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1796-441C-45C3-BA25-704F6B9530A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CDFE6-1ED0-46AB-8A5F-3FD99A7EAB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802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Формы международной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62864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ямые коммерческие операции, оплата в валюте – основное мест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тречная торговля: оплата поставок осуществляется встречными поставками товаров (бартер, компенсационные сделки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3141720"/>
            <a:ext cx="133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БАРТЕ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2484360" y="3141720"/>
            <a:ext cx="561672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ДЕЛКА НА ОСНОВЕ НАТУРАЛЬНОГО ОБМ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ТОВАРАМИ БЕЗ ДЕНЕЖНОГО РАСЧЕ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407664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оссии бартер составляет от 11 до 14%. Самый большой бартерный оборот с Китаем, Германией, Швейцарией, Венгрией (экспорт рыбы, каменного угля, чугуна, жел.руды, импорт сахара, мясных консервов, легковых автомобилей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11280" y="4941720"/>
            <a:ext cx="3838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Компенсацион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сдел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515772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ставка оборудования на условиях кредита, который погашается поставками продукции, выпущенной на этом оборудовании и т.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35280" y="573408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726F-7554-497C-A9DA-926FFACBF59E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9D3F2-95B9-4C4F-ABD9-D48E9406D9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68360" y="333360"/>
            <a:ext cx="493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оды м-н торговли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907920"/>
            <a:ext cx="741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ямые сделки с экспортер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ьзование посредников,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дистрибьютер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комиссионер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агентов (биржевая торговля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2205000"/>
            <a:ext cx="5067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ды сделок на биржах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2852640"/>
            <a:ext cx="7777080" cy="33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Сделки на реальный товар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едполагают его поставку немедленно, т.е. в срок до 15 дней (сделка кэш или спот), или поставка в будущем (форвард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Срочные (фьючерсные) сделк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сделки, которые не предусматривают обязательства сторон поставить или принять реальный товар, а предполагают куплю или продажу прав на товар, т.е.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фьючерсных контракт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Результат сделки – уплата или получение разницы между ценой контракта в день его заключения и ценой в день исполнения. Целью является не получение товара, получение спекулятивной прибыли за счет разницы цен или застраховаться от потерь в случае изменения це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C6B6-A644-4073-B768-11962DDFA6D7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76844-997C-4639-A640-FC1BE40AF7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55640" y="692280"/>
            <a:ext cx="77040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3. Международные торг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на мировых рынках строительных услуг, при поставках дорогого оборудования. Заказ получает фирма, предложившая лучшие условия его выполн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4. Международные аукцион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На них реализуются товары, обладающие индивидуальными свойствами: пушно-меховые изделия, произведения искусства и т.п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5. Электронная коммерция</a:t>
            </a:r>
            <a:r>
              <a:rPr b="0" lang="ru-RU" sz="2000" spc="-1" strike="noStrike">
                <a:solidFill>
                  <a:srgbClr val="ff99ff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например, сбыт энергоносителей на международной нефтяной бирже в Лондоне, Нью-Йоркской и Гонконгской фьючерсных бирж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DA8C-A836-49FD-BC55-5EB69DED692E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860F8-6E8B-48CA-A284-EA7FB960AF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Роль ООН в мировой экономике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ятельность шести основных органов ООН регламентирует Десятая глава Устава. Одним из них, непосредственно связанным с международными экономическими отношениями, является ЭКОКОС - Экономический и социальный совет ООН, под эгидой которого действует и большинство других экономических органов этой организац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функции ЭКОКОС входит организация исследований и подготовка различного рода докладов и рекомендаций по самому широкому спектру международных экономических, социальных, культурных и сопряженных с ними вопрос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BAFE-1044-423A-A8C3-335F3865F06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7EAB4-C358-4B70-9B40-69FCE491B0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7772400" cy="6335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ферой деятельности ЭКО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яется рассмотрение следующих вопросов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состояние мирового экономического и социального положения и международная торговля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ы окружающей среды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вопросы оказания экономической и научной помощи развивающимся странам, а также аспекты состояния в них продовольственной проблем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состояние проблем социально-экономической статистики, народонаселения и природных ресурсов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а планирования и мобилизации финансовых ресурсов, а также роли государственного и кооперативного секторов в экономике развивающихся стран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ы регионального сотрудниче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9D33-0B61-462A-8AE4-DADF97FB388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CCF56-1E67-4DF2-BFB3-B6446AFA5A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260280"/>
            <a:ext cx="8424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ференция ООН по торговле и развитию (ЮНКТАД) - международный орган, призванный регулировать всемирные торговые отношен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иболее важные требования к участникам международной торговли разрабатываются ГАТТ (Генеральное соглашение по торговле и тарифам) - они выполняют приоритетную роль и при разработке документов ЮНКТАД. С 1997 года ГАТТ решением ее участников было преобразовано во Всемирную торговую организацию, как специализированное учреждение ОО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5D30-F6A0-4B41-9C80-C0AC121DC617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EA968-6BD5-47EB-8C31-1FFE8E909A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ьючер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Futures contract; Futu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ьючерсный контракт - контракт на покупку или продажу товара (финансового актива) с поставкой на будущую дату. Фьючерсный контракт предусматривает строго определенное количество товара установленного вида с минимально допустимыми отклонениями, поставляемого на определенных условиях оплаты накладных или транспортных расход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делка по продаже (покупке) фьючерсного контракта обязательно регистрируется расчетной палатой бирж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2124000" y="6381720"/>
            <a:ext cx="1008000" cy="476280"/>
          </a:xfrm>
          <a:custGeom>
            <a:avLst/>
            <a:gdLst>
              <a:gd name="textAreaLeft" fmla="*/ 30600 w 1008000"/>
              <a:gd name="textAreaRight" fmla="*/ 977400 w 1008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5696" h="21600">
                <a:moveTo>
                  <a:pt x="0" y="0"/>
                </a:moveTo>
                <a:lnTo>
                  <a:pt x="45696" y="0"/>
                </a:lnTo>
                <a:lnTo>
                  <a:pt x="45696" y="21600"/>
                </a:lnTo>
                <a:lnTo>
                  <a:pt x="0" y="21600"/>
                </a:lnTo>
                <a:close/>
              </a:path>
              <a:path fill="lightenLess" w="45696" h="21600">
                <a:moveTo>
                  <a:pt x="0" y="0"/>
                </a:moveTo>
                <a:lnTo>
                  <a:pt x="45696" y="0"/>
                </a:lnTo>
                <a:lnTo>
                  <a:pt x="44296" y="1400"/>
                </a:lnTo>
                <a:lnTo>
                  <a:pt x="1400" y="1400"/>
                </a:lnTo>
                <a:close/>
              </a:path>
              <a:path fill="darken" w="45696" h="21600">
                <a:moveTo>
                  <a:pt x="45696" y="0"/>
                </a:moveTo>
                <a:lnTo>
                  <a:pt x="45696" y="21600"/>
                </a:lnTo>
                <a:lnTo>
                  <a:pt x="44296" y="20200"/>
                </a:lnTo>
                <a:lnTo>
                  <a:pt x="44296" y="1400"/>
                </a:lnTo>
                <a:close/>
              </a:path>
              <a:path fill="darkenLess" w="45696" h="21600">
                <a:moveTo>
                  <a:pt x="45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96" y="20200"/>
                </a:lnTo>
                <a:close/>
              </a:path>
              <a:path fill="lighten" w="45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96" h="21600">
                <a:moveTo>
                  <a:pt x="15842" y="10800"/>
                </a:moveTo>
                <a:lnTo>
                  <a:pt x="29855" y="3794"/>
                </a:lnTo>
                <a:lnTo>
                  <a:pt x="29855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5E02-FCC1-40BA-86B2-B6E480FEFF34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3D8B3-9198-41BF-A887-21F9DB4C41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ировая экономи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268280"/>
            <a:ext cx="84247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ровую экономику можно определить как совокупность национальных хозяйств и негосударственных структур, объединенных международными отношен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ровая экономика возникла благодаря международному разделению труда, что повлекло за собой как разделение производства (то есть международную специализацию), так и его объединение — коопераци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характеристик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ерархичность (наличие наднациональных институтов, например ООН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огоуровнев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уктур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равномерность распределения экономической мощи (на 32 развитые страны мира приходится 80% мировой покупательной способности граждан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определенного мирового поряд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4970-FFD6-4929-9A5D-F0110012F1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9B88F-7F5E-462B-AA01-B3CAAB41F5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ятельность дистрибьютора состоит в том, что он делает оптовую закупу товара и реализует его на региональных рынках. Одновременно дистрибьютор оказывает консультационные и маркетинговые услуги, при необходимости занимается установкой оборудования. То есть, фактически, дистрибьютор – продавец, торговый представитель фирм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2124000" y="6237360"/>
            <a:ext cx="1079640" cy="620640"/>
          </a:xfrm>
          <a:custGeom>
            <a:avLst/>
            <a:gdLst>
              <a:gd name="textAreaLeft" fmla="*/ 39960 w 1079640"/>
              <a:gd name="textAreaRight" fmla="*/ 1039680 w 1079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7565" h="21600">
                <a:moveTo>
                  <a:pt x="0" y="0"/>
                </a:moveTo>
                <a:lnTo>
                  <a:pt x="37565" y="0"/>
                </a:lnTo>
                <a:lnTo>
                  <a:pt x="37565" y="21600"/>
                </a:lnTo>
                <a:lnTo>
                  <a:pt x="0" y="21600"/>
                </a:lnTo>
                <a:close/>
              </a:path>
              <a:path fill="lightenLess" w="37565" h="21600">
                <a:moveTo>
                  <a:pt x="0" y="0"/>
                </a:moveTo>
                <a:lnTo>
                  <a:pt x="37565" y="0"/>
                </a:lnTo>
                <a:lnTo>
                  <a:pt x="36165" y="1400"/>
                </a:lnTo>
                <a:lnTo>
                  <a:pt x="1400" y="1400"/>
                </a:lnTo>
                <a:close/>
              </a:path>
              <a:path fill="darken" w="37565" h="21600">
                <a:moveTo>
                  <a:pt x="37565" y="0"/>
                </a:moveTo>
                <a:lnTo>
                  <a:pt x="37565" y="21600"/>
                </a:lnTo>
                <a:lnTo>
                  <a:pt x="36165" y="20200"/>
                </a:lnTo>
                <a:lnTo>
                  <a:pt x="36165" y="1400"/>
                </a:lnTo>
                <a:close/>
              </a:path>
              <a:path fill="darkenLess" w="37565" h="21600">
                <a:moveTo>
                  <a:pt x="3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65" y="20200"/>
                </a:lnTo>
                <a:close/>
              </a:path>
              <a:path fill="lighten" w="3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65" h="21600">
                <a:moveTo>
                  <a:pt x="11776" y="10800"/>
                </a:moveTo>
                <a:lnTo>
                  <a:pt x="25789" y="3794"/>
                </a:lnTo>
                <a:lnTo>
                  <a:pt x="25789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7201-8144-4BF2-8282-31FDDF273A7D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2461D-416B-4413-9004-0B4F39A795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ИССИОНЕР — посредник в торговых сделках; лицо, выполняющее за особое вознаграждение торговые поручения от своего имени, но за счет комитен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1547640" y="6237360"/>
            <a:ext cx="936720" cy="620640"/>
          </a:xfrm>
          <a:custGeom>
            <a:avLst/>
            <a:gdLst>
              <a:gd name="textAreaLeft" fmla="*/ 39960 w 936720"/>
              <a:gd name="textAreaRight" fmla="*/ 896760 w 936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2594" h="21600">
                <a:moveTo>
                  <a:pt x="0" y="0"/>
                </a:moveTo>
                <a:lnTo>
                  <a:pt x="32594" y="0"/>
                </a:lnTo>
                <a:lnTo>
                  <a:pt x="32594" y="21600"/>
                </a:lnTo>
                <a:lnTo>
                  <a:pt x="0" y="21600"/>
                </a:lnTo>
                <a:close/>
              </a:path>
              <a:path fill="lightenLess" w="32594" h="21600">
                <a:moveTo>
                  <a:pt x="0" y="0"/>
                </a:moveTo>
                <a:lnTo>
                  <a:pt x="32594" y="0"/>
                </a:lnTo>
                <a:lnTo>
                  <a:pt x="31194" y="1400"/>
                </a:lnTo>
                <a:lnTo>
                  <a:pt x="1400" y="1400"/>
                </a:lnTo>
                <a:close/>
              </a:path>
              <a:path fill="darken" w="32594" h="21600">
                <a:moveTo>
                  <a:pt x="32594" y="0"/>
                </a:moveTo>
                <a:lnTo>
                  <a:pt x="32594" y="21600"/>
                </a:lnTo>
                <a:lnTo>
                  <a:pt x="31194" y="20200"/>
                </a:lnTo>
                <a:lnTo>
                  <a:pt x="31194" y="1400"/>
                </a:lnTo>
                <a:close/>
              </a:path>
              <a:path fill="darkenLess" w="32594" h="21600">
                <a:moveTo>
                  <a:pt x="32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4" y="20200"/>
                </a:lnTo>
                <a:close/>
              </a:path>
              <a:path fill="lighten" w="32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4" h="21600">
                <a:moveTo>
                  <a:pt x="9291" y="10800"/>
                </a:moveTo>
                <a:lnTo>
                  <a:pt x="23304" y="3794"/>
                </a:lnTo>
                <a:lnTo>
                  <a:pt x="23304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EC63-BD2A-4E2A-AE72-0CBE3B899BD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A6CAD5-5955-4C27-94EE-2FB7B53062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0" t="0" r="3969" b="0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D34A-F245-41EB-8AC6-3D92A531C96D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88930-77A6-4F3F-AE7E-18661C0AE3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15184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Направления и формы международных экономических отношений: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341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международная торговля товарами, работами, услуг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международная специализация производства и научно-технических работ, или международный научно-технический обмен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обмен научно-техническими результат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информационные, валютно-финансовые и кредитные связи между стран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вижение капитала (инвестиции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вижение (миграция) рабочей силы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еятельность международных экономических организаций, хозяйственное сотрудничество в решении глобальных пробл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0586-9D4D-4452-83C1-6A38C57E2BF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2FEAA-264E-45CC-9536-9343727E0F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Субъекты мировых хозяйственных отношений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нснациональные корпорации (ТНК) и их долгосрочные альянс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нснациональные банк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нансово-промышленные группы — объединение ТНК и ТНБ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иржи (особенно крупные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упные предпринимател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сударства, и приравненные к ним территории, а также административные единицы данных государств и территорий; Мировые финансовые и экономические организации (включая крупных инвесторов и организации-объединения крупных компаний, занимающиеся контролем определенных международных рынков, объединения стран внутри региона — СНГ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94172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ост мировой экономики за 2005 год составил 4,4 %. Суммарный ВВП всех стран составил на конец 2005 года — 43,07 трлн долл. США в номинальном выражении. В среднем ВВП на душу населения составляет около 9500 долл. (ППП) на человека. Сейчас в мире насчитывается около 30 тысяч транснациональных корпораций и около 300 тысяч их филиал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75E3-FA55-49D6-9CB0-7A1A9DF499E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7D161-4514-441D-8E19-32DBBF582B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907920"/>
            <a:ext cx="77724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развитая инфраструктура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наличие политических решений правительства (создание условий для интеграции – политическая и экономическая база);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2421000"/>
          <a:ext cx="7848360" cy="3963960"/>
        </p:xfrm>
        <a:graphic>
          <a:graphicData uri="http://schemas.openxmlformats.org/drawingml/2006/table">
            <a:tbl>
              <a:tblPr/>
              <a:tblGrid>
                <a:gridCol w="2057400"/>
                <a:gridCol w="5790960"/>
              </a:tblGrid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ип интегр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зна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она свободной торговл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а соглашения, когда участники договариваются о снятии таможенных тарифов и квот в отношении друг друга. При этом к третьим странам – у каждого своя политика. Примеры: НАФТА, ЕЭС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моженный сою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ное устранение препятствий для перемещений всех факторов производства между странами-участницами. В процессе решения находятся такие вопросы, как: полное согласование экономической политики и т.д., выравнивание экономических показателей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260280"/>
            <a:ext cx="808056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Условия и типы интеграции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625A-342D-4798-84B6-3B92543BF72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DCF84-3B0B-44B7-80C6-BCF8AE3DAB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24000" y="304920"/>
          <a:ext cx="8819640" cy="7086240"/>
        </p:xfrm>
        <a:graphic>
          <a:graphicData uri="http://schemas.openxmlformats.org/drawingml/2006/table">
            <a:tbl>
              <a:tblPr/>
              <a:tblGrid>
                <a:gridCol w="2122920"/>
                <a:gridCol w="669672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ономический сою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никает на этапе высокого экономического развития. Проводится согласованная (или даже единая) экономическая политика и на этой основе идет снятие всех препятствий. Создаются межгосударственные (надгосударственные) органы. Идут крупные экономические преобразования во всех странах-участницах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лютный союз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а экономического союза и одновременно его крупная составляющая. Характерными чертами валютного союза являются: 1) согласованное (совместное) плавание национальных валют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) установление по соглашению фиксированных валютных курсов, которые целенаправленно поддерживаются Центробанками стран-участниц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) создание единой региональной валюты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) формирование единого регионального банка, являющегося эмиссионным центром этой международной валютной единицы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ная экономическая интеграц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диная экономическая политика и, как следствие, унификация законодательной базы. Условия: 1) общая налоговая система; 2) наличие единых стандартов; 3) единое трудовое законодательство и т.д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72A8-D754-4117-BD03-DBBDF7E74BD3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14F8F-824A-4A5B-99C0-7A43607CB8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1341360"/>
            <a:ext cx="8209080" cy="29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правление экономической мысл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VI-XVII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в., видным представителем которого был Т.Манн (1571-1641) изучали проблемы внешней торгов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ркантилисты полагали, что внешняя торговля необходима стране для накопления золота, которое считалось главным источником богатства нации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иток золота в страну обеспечивается, если вывоз товаров, за которые государство получает золото, будет больше ввоза, за который надлежит расплачиваться благородным металл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этому меркантилисты выступали за расширение экспорта и всемерное ограничение импор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40000" y="4365720"/>
            <a:ext cx="3024000" cy="2236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еркантилизм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3749-AF6B-4A2D-BD98-EE9D290A2DF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3C6C0-8F20-4296-A798-87E1A23664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дам Смит выдвинул теорию мировой торговли, обосновав необходимость либерализации импорта и ослабления таможенных ограничений. Подход Смита получил назв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360" y="1052640"/>
            <a:ext cx="74041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НЦИП АБСОЛЮТНОГО ПРЕИМУЩЕСТВ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773360"/>
            <a:ext cx="8496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ждая страна должна специализироваться на производстве товаров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редние издержки которых меньш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ем средние издержки в других стран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5516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бсолютное преимущество по какому-либо товару определяется наделенностью соответствующими ресурсами. Экспортируя часть товаров, на вырученные деньги страна приобретает товары, в производстве которых преимущество у другой стра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3213000"/>
            <a:ext cx="476244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B385-60A7-41EA-B4D7-B4605BCA11C0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FA819-3EFE-450D-AA46-47143AAA9A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116000" y="404640"/>
            <a:ext cx="68198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НЦИП СРАВНИТЕЛЬНОГО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ЕИМУЩЕСТВ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1557360"/>
            <a:ext cx="6985080" cy="172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НА  ДОЛЖНА  СПЕЦИАЛИЗИРОВАТЬСЯ 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ПУСКЕ  ТОВАРОВ,  ПРОИЗВОДСТВО  КОТОР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НОСИТЕЛЬНО  БОЛЕЕ  ВЫГОДНО  В  СОПОСТАВЛЕН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 ПРОИЗВОДСТВОМ  ТАКИХ  ЖЕ  ТОВАРОВ  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РУГИХ   СТРАН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3500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сравнительного преимущества Д.Рикардо впоследствии развили другие  экономисты, которые распространили его на всю совокупность факторов производства, включая капитал. Страны экспортируют те товары, на производство которых идут факторы, имеющиеся в относительном избытке и поэтому относительно дешевые (рабочая сила в развивающихся странах дешевая, страны экспортируют трудоемкие товары, а импортируют наукоемкую продукцию, так собственное их производство потребовало бы относительно больших затрат в связи с нехваткой капитала и квалифицированного труд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FD6E-713F-4067-B3B0-23B3363C041F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74639-89BE-46AE-979C-B8BC2F5D3B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4:11:11Z</dcterms:created>
  <dc:creator>Надежда</dc:creator>
  <dc:description/>
  <dc:language>en-US</dc:language>
  <cp:lastModifiedBy>Надежда</cp:lastModifiedBy>
  <dcterms:modified xsi:type="dcterms:W3CDTF">2009-12-14T12:20:20Z</dcterms:modified>
  <cp:revision>6</cp:revision>
  <dc:subject/>
  <dc:title>Международная торгов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